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Click to move the slide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8FEA-E54D-42A4-A397-2FDE5ACEEC2A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uhaus 9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FC26-3C13-473A-939B-15279E25C584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4C92-7774-4F65-8371-4F421419CCC3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ACB4-F932-403D-94E2-C093AFDEABFD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4E1A-E7D3-42A3-A1B1-8BFC4FF92EC0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8168-2931-4886-8A8D-C6D583FB2636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FA8D-8B2B-4ABD-9DDD-95DA0BCE9278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04B-0F40-4A1E-9DE7-E5635252D016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1581-8867-4C49-BE08-3F3CBE0F73C9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9C52-A44C-4DB8-8908-E1EE94533BAB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BC0C-7B71-4277-BC17-FBAF74E08A7B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A0F-C86D-4E9C-AA95-7CD13EB6C733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359B-3D09-4ED6-9C08-A0AB4CF1A891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C05-39A9-4B30-802E-75577B3DDA1E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2710-FD0A-4211-BBA7-00F72C29EF38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F41-0328-4EB2-A864-3BBB0C1C3420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ADA6-EEA3-4F83-82FD-5D2E93B97BCA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6834-BDD0-494A-9C2B-708A4BE78F41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853C-30F0-4042-BB6B-503BB843545B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49BF-BD08-459D-8891-6428027F7DCA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E63-DC48-4182-A38D-5B65F824CABD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340-BBB1-493F-8025-78B0A07E1708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1CA6-165F-4A99-A5BC-95272AF3C0ED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850C-0B75-42B4-A1BD-A9CE3151633F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5127-2033-4A3F-9B6B-2606B44DBA9F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942D-CB3C-47DC-9F7A-A066CC0F5F73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C41C-21F1-4559-988C-858D3F936B90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EBB-2279-4C55-B664-72FB602DA00A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6551-10C6-40A3-8AA7-A7198420F522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261A-5867-4465-A491-7848CF1DE485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50F-3276-438C-9696-C655FDD97CC3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4431-B8A2-4E2C-916A-FDE16E98B342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86D-A8C5-4FC5-9E38-05EAAA6F644A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2DB-CB57-44B4-885F-FB701732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6FF-8BA6-42FD-BEF0-8F490FD2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2B9-A71E-44B6-BE13-DC94737D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72C-6C0A-4E21-9CDC-931E99BE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ECA-8A46-41B5-A594-24FBEEA8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A3B-88E8-4E8A-AB1E-E30A5C3E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A53-C3BD-485E-BF96-D81F9C5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4F8-1D41-4969-B367-336B4EB7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FB7-FCAB-4C18-A84A-027F701F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6AD-DAC9-4801-9F37-CE0E1D6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8A8-9236-4AFB-AF41-9688A86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DC1-4ACC-40A1-BC1B-8B137388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Click to edit the title text format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2d2015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A7CB-1B31-4C3E-9AC9-E7F6B9F4CA87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uhaus 9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2743200"/>
          </a:xfrm>
          <a:prstGeom prst="rect">
            <a:avLst/>
          </a:prstGeom>
          <a:solidFill>
            <a:srgbClr val="ccb400"/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1b0b"/>
                </a:solidFill>
                <a:latin typeface="Engravers MT"/>
              </a:rPr>
              <a:t>Management of Organizational Behavior:  </a:t>
            </a:r>
            <a:br>
              <a:rPr sz="3600"/>
            </a:br>
            <a:r>
              <a:rPr b="0" lang="en-US" sz="2400" spc="-1" strike="noStrike">
                <a:solidFill>
                  <a:srgbClr val="251b0b"/>
                </a:solidFill>
                <a:latin typeface="Engravers MT"/>
              </a:rPr>
              <a:t>Leading Human Resources</a:t>
            </a:r>
            <a:endParaRPr b="0" lang="en-US" sz="24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4193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2015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Concerns and examples </a:t>
            </a:r>
            <a:br>
              <a:rPr sz="3200"/>
            </a:b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Linear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llower is not involved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o face-to-face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Based on hop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Does follower understand the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o opportunity for response from follower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Represents one-way communication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Billboards, television, flyers, sign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 rot="896400">
            <a:off x="609120" y="1261800"/>
            <a:ext cx="3057480" cy="155736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360"/>
              <a:gd name="textAreaBottom" fmla="*/ 1160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79" name="AutoShape 3"/>
          <p:cNvSpPr/>
          <p:nvPr/>
        </p:nvSpPr>
        <p:spPr>
          <a:xfrm flipH="1" rot="20703600">
            <a:off x="5551920" y="2437920"/>
            <a:ext cx="3057480" cy="155700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000"/>
              <a:gd name="textAreaBottom" fmla="*/ 1159920 h 155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c08d"/>
                </a:solidFill>
                <a:latin typeface="Engravers MT"/>
              </a:rPr>
              <a:t>The Linear Model</a:t>
            </a:r>
            <a:endParaRPr b="0" lang="en-US" sz="36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685800" y="541008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Lead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6477120" y="541008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Follow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3086280" y="5410080"/>
            <a:ext cx="2971800" cy="990720"/>
          </a:xfrm>
          <a:custGeom>
            <a:avLst/>
            <a:gdLst>
              <a:gd name="textAreaLeft" fmla="*/ 371520 w 2971800"/>
              <a:gd name="textAreaRight" fmla="*/ 2600640 w 29718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Book Antiqua"/>
              </a:rPr>
              <a:t>Channel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3716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898560" y="1333440"/>
            <a:ext cx="664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6" name="AutoShape 10"/>
          <p:cNvSpPr/>
          <p:nvPr/>
        </p:nvSpPr>
        <p:spPr>
          <a:xfrm rot="896400">
            <a:off x="636120" y="3741480"/>
            <a:ext cx="3057480" cy="155736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360"/>
              <a:gd name="textAreaBottom" fmla="*/ 1160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3657600" y="3844800"/>
            <a:ext cx="1828800" cy="9208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3657600" y="2570040"/>
            <a:ext cx="1828800" cy="9208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Symbols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3657600" y="1366920"/>
            <a:ext cx="1828800" cy="9190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Encod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7432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is model allows the follower to have face-to-face communication with the lead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371600" y="320040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Lead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791320" y="320040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Follow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3352680" y="3200400"/>
            <a:ext cx="2210040" cy="990720"/>
          </a:xfrm>
          <a:custGeom>
            <a:avLst/>
            <a:gdLst>
              <a:gd name="textAreaLeft" fmla="*/ 276120 w 2210040"/>
              <a:gd name="textAreaRight" fmla="*/ 1933920 w 22100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Book Antiqua"/>
              </a:rPr>
              <a:t>Channel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267080" y="2514600"/>
            <a:ext cx="609840" cy="762120"/>
          </a:xfrm>
          <a:prstGeom prst="downArrow">
            <a:avLst>
              <a:gd name="adj1" fmla="val 50000"/>
              <a:gd name="adj2" fmla="val 31243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8153280" y="3581280"/>
            <a:ext cx="609840" cy="762120"/>
          </a:xfrm>
          <a:prstGeom prst="downArrow">
            <a:avLst>
              <a:gd name="adj1" fmla="val 50000"/>
              <a:gd name="adj2" fmla="val 31243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8" name="AutoShape 13"/>
          <p:cNvSpPr/>
          <p:nvPr/>
        </p:nvSpPr>
        <p:spPr>
          <a:xfrm rot="5400000">
            <a:off x="4571640" y="57150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9" name="AutoShape 15"/>
          <p:cNvSpPr/>
          <p:nvPr/>
        </p:nvSpPr>
        <p:spPr>
          <a:xfrm rot="10800000">
            <a:off x="228240" y="388584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0" name="AutoShape 17"/>
          <p:cNvSpPr/>
          <p:nvPr/>
        </p:nvSpPr>
        <p:spPr>
          <a:xfrm rot="16200000">
            <a:off x="3048120" y="159984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1" name="AutoShape 18"/>
          <p:cNvSpPr/>
          <p:nvPr/>
        </p:nvSpPr>
        <p:spPr>
          <a:xfrm rot="13151400">
            <a:off x="6095880" y="2208960"/>
            <a:ext cx="609840" cy="762120"/>
          </a:xfrm>
          <a:prstGeom prst="downArrow">
            <a:avLst>
              <a:gd name="adj1" fmla="val 50000"/>
              <a:gd name="adj2" fmla="val 31243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3924360" y="1981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essag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16002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ymbols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0" y="3062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304920" y="518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e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2819520" y="5881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eedback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5867280" y="5943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essag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7772400" y="4662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ymbol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7772400" y="29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6477120" y="17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e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1" name="AutoShape 33"/>
          <p:cNvSpPr/>
          <p:nvPr/>
        </p:nvSpPr>
        <p:spPr>
          <a:xfrm rot="10800000">
            <a:off x="456840" y="2133720"/>
            <a:ext cx="1731960" cy="97632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2" name="AutoShape 34"/>
          <p:cNvSpPr/>
          <p:nvPr/>
        </p:nvSpPr>
        <p:spPr>
          <a:xfrm rot="16477800">
            <a:off x="7089480" y="2226600"/>
            <a:ext cx="1731960" cy="97632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3" name="AutoShape 35"/>
          <p:cNvSpPr/>
          <p:nvPr/>
        </p:nvSpPr>
        <p:spPr>
          <a:xfrm>
            <a:off x="6858000" y="5105520"/>
            <a:ext cx="1731960" cy="97632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4" name="AutoShape 36"/>
          <p:cNvSpPr/>
          <p:nvPr/>
        </p:nvSpPr>
        <p:spPr>
          <a:xfrm rot="2918400">
            <a:off x="765360" y="5101920"/>
            <a:ext cx="1731960" cy="97632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After receiving the message, follower decodes it for meaning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llower translates the symbol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llower may create a message to return to the lead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rough decoding messages and encoding symbols, follower may give </a:t>
            </a:r>
            <a:r>
              <a:rPr b="1" lang="en-US" sz="3200" spc="-1" strike="noStrike" u="sng">
                <a:solidFill>
                  <a:srgbClr val="2d2015"/>
                </a:solidFill>
                <a:uFillTx/>
                <a:latin typeface="Book Antiqua"/>
              </a:rPr>
              <a:t>feedback</a:t>
            </a: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 to lead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Book Antiqua"/>
              </a:rPr>
              <a:t>Feedback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After receiving feedback from a follower, the leader may reshape through feedback then send message to new foll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ven if there is no feedback, the lack of a response is feedback to the lead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00996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is model best explains face-to-face human communication and demonstrates that the responses of the other person involved are continua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trans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Provides best face-to-face communication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onstantly encoding and decoding messages when talking face-to-fac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hannel has two-headed arrow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ontains three new element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External Nois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Internal Nois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Semantic Nois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rans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3716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898560" y="1333440"/>
            <a:ext cx="664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grpSp>
        <p:nvGrpSpPr>
          <p:cNvPr id="126" name="Group 17"/>
          <p:cNvGrpSpPr/>
          <p:nvPr/>
        </p:nvGrpSpPr>
        <p:grpSpPr>
          <a:xfrm>
            <a:off x="1897560" y="3191400"/>
            <a:ext cx="5346720" cy="2324520"/>
            <a:chOff x="1897560" y="3191400"/>
            <a:chExt cx="5346720" cy="2324520"/>
          </a:xfrm>
        </p:grpSpPr>
        <p:sp>
          <p:nvSpPr>
            <p:cNvPr id="127" name="AutoShape 5"/>
            <p:cNvSpPr/>
            <p:nvPr/>
          </p:nvSpPr>
          <p:spPr>
            <a:xfrm flipH="1" rot="20703600">
              <a:off x="5171040" y="3429000"/>
              <a:ext cx="1976400" cy="1006560"/>
            </a:xfrm>
            <a:custGeom>
              <a:avLst/>
              <a:gdLst>
                <a:gd name="textAreaLeft" fmla="*/ 264600 w 1976400"/>
                <a:gd name="textAreaRight" fmla="*/ 1711800 w 1976400"/>
                <a:gd name="textAreaTop" fmla="*/ 179280 h 1006560"/>
                <a:gd name="textAreaBottom" fmla="*/ 74988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04" stAng="-5400000" swAng="-5400000"/>
                  <a:lnTo>
                    <a:pt x="0" y="12238"/>
                  </a:lnTo>
                  <a:arcTo wR="21600" hR="7704" stAng="10800000" swAng="-2617195"/>
                  <a:lnTo>
                    <a:pt x="14029" y="21111"/>
                  </a:lnTo>
                  <a:lnTo>
                    <a:pt x="21600" y="17674"/>
                  </a:lnTo>
                  <a:lnTo>
                    <a:pt x="14029" y="13259"/>
                  </a:lnTo>
                  <a:lnTo>
                    <a:pt x="14029" y="14918"/>
                  </a:lnTo>
                  <a:arcTo wR="21600" hR="7704" stAng="8182805" swAng="2241180"/>
                  <a:lnTo>
                    <a:pt x="956" y="9971"/>
                  </a:lnTo>
                  <a:arcTo wR="21600" hR="7704" stAng="-10423985" swAng="5023985"/>
                  <a:close/>
                </a:path>
                <a:path fill="darkenLess" w="21600" h="21600">
                  <a:moveTo>
                    <a:pt x="21600" y="0"/>
                  </a:moveTo>
                  <a:arcTo wR="21600" hR="7704" stAng="-5400000" swAng="-5400000"/>
                  <a:lnTo>
                    <a:pt x="0" y="7704"/>
                  </a:lnTo>
                  <a:arcTo wR="21600" hR="7704" stAng="10800000" swAng="-376015"/>
                  <a:lnTo>
                    <a:pt x="956" y="9971"/>
                  </a:lnTo>
                  <a:arcTo wR="21600" hR="7704" stAng="-10423985" swAng="5023985"/>
                  <a:close/>
                </a:path>
              </a:pathLst>
            </a:custGeom>
            <a:solidFill>
              <a:srgbClr val="8c9ea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 rot="896400">
              <a:off x="1993680" y="4271400"/>
              <a:ext cx="1976400" cy="1006560"/>
            </a:xfrm>
            <a:custGeom>
              <a:avLst/>
              <a:gdLst>
                <a:gd name="textAreaLeft" fmla="*/ 264600 w 1976400"/>
                <a:gd name="textAreaRight" fmla="*/ 1711800 w 1976400"/>
                <a:gd name="textAreaTop" fmla="*/ 179280 h 1006560"/>
                <a:gd name="textAreaBottom" fmla="*/ 74988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04" stAng="-5400000" swAng="-5400000"/>
                  <a:lnTo>
                    <a:pt x="0" y="12238"/>
                  </a:lnTo>
                  <a:arcTo wR="21600" hR="7704" stAng="10800000" swAng="-2617195"/>
                  <a:lnTo>
                    <a:pt x="14029" y="21111"/>
                  </a:lnTo>
                  <a:lnTo>
                    <a:pt x="21600" y="17674"/>
                  </a:lnTo>
                  <a:lnTo>
                    <a:pt x="14029" y="13259"/>
                  </a:lnTo>
                  <a:lnTo>
                    <a:pt x="14029" y="14918"/>
                  </a:lnTo>
                  <a:arcTo wR="21600" hR="7704" stAng="8182805" swAng="2241180"/>
                  <a:lnTo>
                    <a:pt x="956" y="9971"/>
                  </a:lnTo>
                  <a:arcTo wR="21600" hR="7704" stAng="-10423985" swAng="5023985"/>
                  <a:close/>
                </a:path>
                <a:path fill="darkenLess" w="21600" h="21600">
                  <a:moveTo>
                    <a:pt x="21600" y="0"/>
                  </a:moveTo>
                  <a:arcTo wR="21600" hR="7704" stAng="-5400000" swAng="-5400000"/>
                  <a:lnTo>
                    <a:pt x="0" y="7704"/>
                  </a:lnTo>
                  <a:arcTo wR="21600" hR="7704" stAng="10800000" swAng="-376015"/>
                  <a:lnTo>
                    <a:pt x="956" y="9971"/>
                  </a:lnTo>
                  <a:arcTo wR="21600" hR="7704" stAng="-10423985" swAng="5023985"/>
                  <a:close/>
                </a:path>
              </a:pathLst>
            </a:custGeom>
            <a:solidFill>
              <a:srgbClr val="8c9ea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29" name="AutoShape 12"/>
            <p:cNvSpPr/>
            <p:nvPr/>
          </p:nvSpPr>
          <p:spPr>
            <a:xfrm>
              <a:off x="3946680" y="4338000"/>
              <a:ext cx="1181880" cy="595080"/>
            </a:xfrm>
            <a:prstGeom prst="octagon">
              <a:avLst>
                <a:gd name="adj" fmla="val 29287"/>
              </a:avLst>
            </a:prstGeom>
            <a:solidFill>
              <a:srgbClr val="8c9ea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23e26"/>
                  </a:solidFill>
                  <a:latin typeface="Book Antiqua"/>
                </a:rPr>
                <a:t>Message</a:t>
              </a:r>
              <a:endParaRPr b="0" lang="en-US" sz="18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30" name="AutoShape 13"/>
            <p:cNvSpPr/>
            <p:nvPr/>
          </p:nvSpPr>
          <p:spPr>
            <a:xfrm>
              <a:off x="3946680" y="3513960"/>
              <a:ext cx="1181880" cy="595080"/>
            </a:xfrm>
            <a:prstGeom prst="octagon">
              <a:avLst>
                <a:gd name="adj" fmla="val 29287"/>
              </a:avLst>
            </a:prstGeom>
            <a:solidFill>
              <a:srgbClr val="8c9ea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23e26"/>
                  </a:solidFill>
                  <a:latin typeface="Book Antiqua"/>
                </a:rPr>
                <a:t>Symbols</a:t>
              </a:r>
              <a:endParaRPr b="0" lang="en-US" sz="1800" spc="-1" strike="noStrike">
                <a:solidFill>
                  <a:srgbClr val="ffffff"/>
                </a:solidFill>
                <a:latin typeface="Bauhaus 93"/>
              </a:endParaRPr>
            </a:p>
          </p:txBody>
        </p:sp>
      </p:grpSp>
      <p:sp>
        <p:nvSpPr>
          <p:cNvPr id="131" name="AutoShape 14"/>
          <p:cNvSpPr/>
          <p:nvPr/>
        </p:nvSpPr>
        <p:spPr>
          <a:xfrm>
            <a:off x="990720" y="1447920"/>
            <a:ext cx="1828800" cy="9190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Book Antiqua"/>
              </a:rPr>
              <a:t>Encode/De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32" name="AutoShape 16"/>
          <p:cNvSpPr/>
          <p:nvPr/>
        </p:nvSpPr>
        <p:spPr>
          <a:xfrm>
            <a:off x="6324480" y="1447920"/>
            <a:ext cx="1828800" cy="9190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Book Antiqua"/>
              </a:rPr>
              <a:t>Decode/En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grpSp>
        <p:nvGrpSpPr>
          <p:cNvPr id="133" name="Group 21"/>
          <p:cNvGrpSpPr/>
          <p:nvPr/>
        </p:nvGrpSpPr>
        <p:grpSpPr>
          <a:xfrm>
            <a:off x="1523880" y="5410080"/>
            <a:ext cx="6096240" cy="890640"/>
            <a:chOff x="1523880" y="5410080"/>
            <a:chExt cx="6096240" cy="890640"/>
          </a:xfrm>
        </p:grpSpPr>
        <p:sp>
          <p:nvSpPr>
            <p:cNvPr id="134" name="AutoShape 6"/>
            <p:cNvSpPr/>
            <p:nvPr/>
          </p:nvSpPr>
          <p:spPr>
            <a:xfrm>
              <a:off x="1523880" y="5470560"/>
              <a:ext cx="1463040" cy="792720"/>
            </a:xfrm>
            <a:prstGeom prst="octagon">
              <a:avLst>
                <a:gd name="adj" fmla="val 29287"/>
              </a:avLst>
            </a:prstGeom>
            <a:solidFill>
              <a:srgbClr val="ccb4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23e26"/>
                  </a:solidFill>
                  <a:latin typeface="Book Antiqua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6157080" y="5470560"/>
              <a:ext cx="1463040" cy="792720"/>
            </a:xfrm>
            <a:prstGeom prst="octagon">
              <a:avLst>
                <a:gd name="adj" fmla="val 29287"/>
              </a:avLst>
            </a:prstGeom>
            <a:solidFill>
              <a:srgbClr val="ccb4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23e26"/>
                  </a:solidFill>
                  <a:latin typeface="Book Antiqua"/>
                </a:rPr>
                <a:t>Follower</a:t>
              </a:r>
              <a:endParaRPr b="0" lang="en-US" sz="24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36" name="AutoShape 18"/>
            <p:cNvSpPr/>
            <p:nvPr/>
          </p:nvSpPr>
          <p:spPr>
            <a:xfrm>
              <a:off x="3261240" y="5410080"/>
              <a:ext cx="2743200" cy="890640"/>
            </a:xfrm>
            <a:prstGeom prst="leftRightArrow">
              <a:avLst>
                <a:gd name="adj1" fmla="val 50000"/>
                <a:gd name="adj2" fmla="val 61315"/>
              </a:avLst>
            </a:prstGeom>
            <a:solidFill>
              <a:srgbClr val="8f5f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b400"/>
                  </a:solidFill>
                  <a:latin typeface="Book Antiqua"/>
                </a:rPr>
                <a:t>Channel</a:t>
              </a:r>
              <a:endParaRPr b="0" lang="en-US" sz="2400" spc="-1" strike="noStrike">
                <a:solidFill>
                  <a:srgbClr val="ffffff"/>
                </a:solidFill>
                <a:latin typeface="Bauhaus 93"/>
              </a:endParaRPr>
            </a:p>
          </p:txBody>
        </p:sp>
      </p:grpSp>
      <p:sp>
        <p:nvSpPr>
          <p:cNvPr id="137" name="AutoShape 19"/>
          <p:cNvSpPr/>
          <p:nvPr/>
        </p:nvSpPr>
        <p:spPr>
          <a:xfrm rot="5400000">
            <a:off x="2971440" y="1905120"/>
            <a:ext cx="1600200" cy="144756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38" name="AutoShape 20"/>
          <p:cNvSpPr/>
          <p:nvPr/>
        </p:nvSpPr>
        <p:spPr>
          <a:xfrm flipH="1" rot="16200000">
            <a:off x="4570920" y="1905120"/>
            <a:ext cx="1600200" cy="144756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2835360" y="3413160"/>
            <a:ext cx="990360" cy="83808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990720" y="4648320"/>
            <a:ext cx="990360" cy="83808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5638680" y="4495680"/>
            <a:ext cx="990720" cy="83844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2" name="AutoShape 25"/>
          <p:cNvSpPr/>
          <p:nvPr/>
        </p:nvSpPr>
        <p:spPr>
          <a:xfrm>
            <a:off x="2819520" y="6095880"/>
            <a:ext cx="761760" cy="64476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3" name="AutoShape 26"/>
          <p:cNvSpPr/>
          <p:nvPr/>
        </p:nvSpPr>
        <p:spPr>
          <a:xfrm>
            <a:off x="1066680" y="3009960"/>
            <a:ext cx="1447920" cy="122544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4" name="AutoShape 27"/>
          <p:cNvSpPr/>
          <p:nvPr/>
        </p:nvSpPr>
        <p:spPr>
          <a:xfrm>
            <a:off x="7162920" y="4114800"/>
            <a:ext cx="1447560" cy="122544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5" name="AutoShape 28"/>
          <p:cNvSpPr/>
          <p:nvPr/>
        </p:nvSpPr>
        <p:spPr>
          <a:xfrm>
            <a:off x="5562720" y="2590920"/>
            <a:ext cx="990360" cy="83808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6" name="AutoShape 29"/>
          <p:cNvSpPr/>
          <p:nvPr/>
        </p:nvSpPr>
        <p:spPr>
          <a:xfrm>
            <a:off x="685800" y="5943600"/>
            <a:ext cx="762120" cy="64440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7" name="AutoShape 30"/>
          <p:cNvSpPr/>
          <p:nvPr/>
        </p:nvSpPr>
        <p:spPr>
          <a:xfrm>
            <a:off x="7543800" y="6019920"/>
            <a:ext cx="762120" cy="64440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8" name="AutoShape 31"/>
          <p:cNvSpPr/>
          <p:nvPr/>
        </p:nvSpPr>
        <p:spPr>
          <a:xfrm>
            <a:off x="4724280" y="6189840"/>
            <a:ext cx="609840" cy="51588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0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trans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External Nois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Occurs outside of brain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Stomach growing, tree in front of sign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Internal Nois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Occurs inside of brain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Listening rate/information rate ratios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External distractions may get you off track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Personal perceptions/preconceived opinions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emantic Nois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Perceptual process creates semantic noise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Known as word noise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We categorize what we hear, define symbol, put it context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More than one condition may be present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Review of Leadership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Defined as an attempt to influenc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Leadership/influence – interchangeabl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ree ways to influence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Diagnosing – understand situ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Adapting – adapt behavior to situ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Communicating – so that others understand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trans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Book Antiqua"/>
              </a:rPr>
              <a:t>Semantic Nois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cxnSp>
        <p:nvCxnSpPr>
          <p:cNvPr id="153" name="AutoShape 4"/>
          <p:cNvCxnSpPr>
            <a:stCxn id="152" idx="0"/>
            <a:endCxn id="152" idx="0"/>
          </p:cNvCxnSpPr>
          <p:nvPr/>
        </p:nvCxnSpPr>
        <p:spPr>
          <a:xfrm>
            <a:off x="4571640" y="1504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AutoShape 5"/>
          <p:cNvCxnSpPr>
            <a:stCxn id="152" idx="0"/>
            <a:endCxn id="152" idx="0"/>
          </p:cNvCxnSpPr>
          <p:nvPr/>
        </p:nvCxnSpPr>
        <p:spPr>
          <a:xfrm>
            <a:off x="4571640" y="1504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Line 6"/>
          <p:cNvSpPr/>
          <p:nvPr/>
        </p:nvSpPr>
        <p:spPr>
          <a:xfrm flipH="1">
            <a:off x="1523520" y="2209680"/>
            <a:ext cx="304812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4572000" y="2209680"/>
            <a:ext cx="31240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cxnSp>
        <p:nvCxnSpPr>
          <p:cNvPr id="157" name="AutoShape 8"/>
          <p:cNvCxnSpPr/>
          <p:nvPr/>
        </p:nvCxnSpPr>
        <p:spPr>
          <a:xfrm>
            <a:off x="1485720" y="3428640"/>
            <a:ext cx="6172920" cy="1080"/>
          </a:xfrm>
          <a:prstGeom prst="straightConnector1">
            <a:avLst/>
          </a:prstGeom>
          <a:ln w="38160">
            <a:solidFill>
              <a:srgbClr val="523e2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58" name="Text Box 12"/>
          <p:cNvSpPr/>
          <p:nvPr/>
        </p:nvSpPr>
        <p:spPr>
          <a:xfrm>
            <a:off x="4479840" y="2301840"/>
            <a:ext cx="1158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984480" y="236232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Thought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162920" y="342900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eferent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09480" y="3429000"/>
            <a:ext cx="142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ymbol or Object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685800" y="4114800"/>
            <a:ext cx="7696080" cy="17524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en we speak, we use symbolism through references or social factors-our 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nt is to influence others.  When we hear what is said, these symbols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use us to react or perform by adopting the intended attitude by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speaker.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Adopted:  Triangle of Learning            Source:  Ogden and Richards 1949</a:t>
            </a:r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Engravers MT"/>
              </a:rPr>
              <a:t>Leadership adjustments through</a:t>
            </a:r>
            <a:br>
              <a:rPr sz="2400"/>
            </a:br>
            <a:r>
              <a:rPr b="1" lang="en-US" sz="2400" spc="-1" strike="noStrike">
                <a:solidFill>
                  <a:srgbClr val="dfc08d"/>
                </a:solidFill>
                <a:latin typeface="Engravers MT"/>
              </a:rPr>
              <a:t>understanding of Semantic Noise</a:t>
            </a:r>
            <a:br>
              <a:rPr sz="2400"/>
            </a:br>
            <a:endParaRPr b="0" lang="en-US" sz="24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015"/>
                </a:solidFill>
                <a:latin typeface="Book Antiqua"/>
              </a:rPr>
              <a:t>Jay A. Conger reinforces need for careful word selection use of paralanguage and nonverbal behavior</a:t>
            </a: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015"/>
                </a:solidFill>
                <a:latin typeface="Book Antiqua"/>
              </a:rPr>
              <a:t>Conger’s guidelines for more expressive, inspirational leadership include:</a:t>
            </a: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015"/>
                </a:solidFill>
                <a:latin typeface="Book Antiqua"/>
              </a:rPr>
              <a:t>Craft mission statement – values, beliefs, purpose</a:t>
            </a: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015"/>
                </a:solidFill>
                <a:latin typeface="Book Antiqua"/>
              </a:rPr>
              <a:t>Use key elements of group’s culture</a:t>
            </a: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015"/>
                </a:solidFill>
                <a:latin typeface="Book Antiqua"/>
              </a:rPr>
              <a:t>Use rhetorical techniques – paralanguage/nonverbal behavior</a:t>
            </a: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015"/>
                </a:solidFill>
                <a:latin typeface="Book Antiqua"/>
              </a:rPr>
              <a:t>Show your emotions to reflect your persona feelings/concern</a:t>
            </a: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015"/>
                </a:solidFill>
                <a:latin typeface="Book Antiqua"/>
              </a:rPr>
              <a:t>Leadership involves capturing the hearts and minds of followers</a:t>
            </a: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Active listening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Leader must be skilled in receiving messages - listening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We speak at 125 wpm; brain able to listen at 400-600 wpm = listening gap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ur types of Listeners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onlistener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- Marginal listener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Evaluative listener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- Active listener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Active Listener – full attention to messag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Active listening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A skill that can be learned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Five guidelines by Carl Rogers: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Listen for message content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Listen for feelings of speak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Respond to feelings of speak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Note the speaker’s cues (verbal/nonverbal)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Reflect back to the speaker what you think you are hearing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Results:  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Leader develops better relationships between management/staff; increase establishment of clear goals; decrease costly problem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Pacing, then leading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Leaders influence from personal power and position p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Rapport builds personal p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ffective communication builds personal p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Getting in step with others make them feel comfortable – pacing with them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Pacing, then leading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Key concepts in establishing rapport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Rapport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 -- attuned to others-verbally/nonverbally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Pacing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 –- reflect what others do – match part of their ongoing experienc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Leading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 -– getting others to pace with you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Having behavioral adaptability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 –- have range in your own behavior to pace with others – get “in sync” by aligning with their words, voice characteristics and nonverbal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The pace-lead process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solidFill>
            <a:srgbClr val="ccb400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015"/>
                </a:solidFill>
                <a:latin typeface="Book Antiqua"/>
              </a:rPr>
              <a:t>Summary:</a:t>
            </a: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  </a:t>
            </a: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- If followers go with your lead – then lead</a:t>
            </a: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- If followers resist your lead, go back to pacing, look for new ways to lead</a:t>
            </a: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62120" y="2697120"/>
            <a:ext cx="1143000" cy="762120"/>
          </a:xfrm>
          <a:prstGeom prst="flowChartProcess">
            <a:avLst/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’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ehavio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2438280" y="2697120"/>
            <a:ext cx="1219320" cy="762120"/>
          </a:xfrm>
          <a:prstGeom prst="flowChartDisplay">
            <a:avLst/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ace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4038480" y="2316240"/>
            <a:ext cx="1143000" cy="1523880"/>
          </a:xfrm>
          <a:prstGeom prst="octagon">
            <a:avLst>
              <a:gd name="adj" fmla="val 29287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ttempts to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5638680" y="2697120"/>
            <a:ext cx="1143000" cy="762120"/>
          </a:xfrm>
          <a:prstGeom prst="flowChartProcess">
            <a:avLst/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ccept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5334120" y="4602240"/>
            <a:ext cx="1371600" cy="838080"/>
          </a:xfrm>
          <a:prstGeom prst="flowChartProcess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sist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7315200" y="2697120"/>
            <a:ext cx="1219320" cy="762120"/>
          </a:xfrm>
          <a:prstGeom prst="flowChartDisplay">
            <a:avLst/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ntinue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ing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1905120" y="3078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3657600" y="3078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1814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6781680" y="3078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5" name="Line 25"/>
          <p:cNvSpPr/>
          <p:nvPr/>
        </p:nvSpPr>
        <p:spPr>
          <a:xfrm>
            <a:off x="4572000" y="384012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6" name="Line 27"/>
          <p:cNvSpPr/>
          <p:nvPr/>
        </p:nvSpPr>
        <p:spPr>
          <a:xfrm>
            <a:off x="4572000" y="475452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7" name="Line 28"/>
          <p:cNvSpPr/>
          <p:nvPr/>
        </p:nvSpPr>
        <p:spPr>
          <a:xfrm flipH="1">
            <a:off x="3048120" y="5288040"/>
            <a:ext cx="228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8" name="Line 29"/>
          <p:cNvSpPr/>
          <p:nvPr/>
        </p:nvSpPr>
        <p:spPr>
          <a:xfrm flipV="1">
            <a:off x="3048120" y="345924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3733920" y="52880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90" name="Line 32"/>
          <p:cNvSpPr/>
          <p:nvPr/>
        </p:nvSpPr>
        <p:spPr>
          <a:xfrm flipV="1">
            <a:off x="3048120" y="345888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181480" y="4754520"/>
            <a:ext cx="152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92" name="Line 35"/>
          <p:cNvSpPr/>
          <p:nvPr/>
        </p:nvSpPr>
        <p:spPr>
          <a:xfrm flipH="1">
            <a:off x="4114440" y="5288040"/>
            <a:ext cx="152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Organizational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All members want to be in “the know”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xternal communication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Internal communication system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Downward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Upward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Horizontal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Grapevin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etwork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Patterns of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Book Antiqua"/>
              </a:rPr>
              <a:t>Two pattern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Star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Group is free to communicate all around the circl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Nothing favors one group memb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Decision making open to all member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Circl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C” is in leadership rol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Members communicate with “C”, not each oth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Represents an autocratic structur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429000" y="2362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Patterns of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cxnSp>
        <p:nvCxnSpPr>
          <p:cNvPr id="200" name="AutoShape 4"/>
          <p:cNvCxnSpPr/>
          <p:nvPr/>
        </p:nvCxnSpPr>
        <p:spPr>
          <a:xfrm>
            <a:off x="437760" y="38635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1" name="AutoShape 5"/>
          <p:cNvCxnSpPr/>
          <p:nvPr/>
        </p:nvCxnSpPr>
        <p:spPr>
          <a:xfrm>
            <a:off x="437760" y="38635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Text Box 7"/>
          <p:cNvSpPr/>
          <p:nvPr/>
        </p:nvSpPr>
        <p:spPr>
          <a:xfrm>
            <a:off x="2296440" y="36417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58128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1355760" y="49687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581280" y="2514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990720" y="2514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990720" y="4784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1337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9" name="AutoShape 24"/>
          <p:cNvSpPr/>
          <p:nvPr/>
        </p:nvSpPr>
        <p:spPr>
          <a:xfrm rot="19017000">
            <a:off x="1219320" y="419076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0" name="AutoShape 25"/>
          <p:cNvSpPr/>
          <p:nvPr/>
        </p:nvSpPr>
        <p:spPr>
          <a:xfrm rot="2577000">
            <a:off x="2590560" y="419112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1" name="AutoShape 26"/>
          <p:cNvSpPr/>
          <p:nvPr/>
        </p:nvSpPr>
        <p:spPr>
          <a:xfrm rot="2577000">
            <a:off x="1218960" y="304812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2" name="AutoShape 27"/>
          <p:cNvSpPr/>
          <p:nvPr/>
        </p:nvSpPr>
        <p:spPr>
          <a:xfrm rot="8241600">
            <a:off x="2552400" y="300996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3" name="AutoShape 28"/>
          <p:cNvSpPr/>
          <p:nvPr/>
        </p:nvSpPr>
        <p:spPr>
          <a:xfrm rot="8624400">
            <a:off x="5333400" y="2590920"/>
            <a:ext cx="990360" cy="457200"/>
          </a:xfrm>
          <a:prstGeom prst="leftRightArrow">
            <a:avLst>
              <a:gd name="adj1" fmla="val 50000"/>
              <a:gd name="adj2" fmla="val 43122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4" name="AutoShape 29"/>
          <p:cNvSpPr/>
          <p:nvPr/>
        </p:nvSpPr>
        <p:spPr>
          <a:xfrm rot="2278800">
            <a:off x="6781320" y="2590920"/>
            <a:ext cx="990720" cy="457200"/>
          </a:xfrm>
          <a:prstGeom prst="leftRightArrow">
            <a:avLst>
              <a:gd name="adj1" fmla="val 50000"/>
              <a:gd name="adj2" fmla="val 43138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5" name="AutoShape 30"/>
          <p:cNvSpPr/>
          <p:nvPr/>
        </p:nvSpPr>
        <p:spPr>
          <a:xfrm rot="10800000">
            <a:off x="6019560" y="480060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6" name="AutoShape 31"/>
          <p:cNvSpPr/>
          <p:nvPr/>
        </p:nvSpPr>
        <p:spPr>
          <a:xfrm rot="4186800">
            <a:off x="4915080" y="4000320"/>
            <a:ext cx="990360" cy="457200"/>
          </a:xfrm>
          <a:prstGeom prst="leftRightArrow">
            <a:avLst>
              <a:gd name="adj1" fmla="val 50000"/>
              <a:gd name="adj2" fmla="val 43122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7" name="AutoShape 32"/>
          <p:cNvSpPr/>
          <p:nvPr/>
        </p:nvSpPr>
        <p:spPr>
          <a:xfrm rot="6530400">
            <a:off x="7200720" y="4000320"/>
            <a:ext cx="990360" cy="457200"/>
          </a:xfrm>
          <a:prstGeom prst="leftRightArrow">
            <a:avLst>
              <a:gd name="adj1" fmla="val 50000"/>
              <a:gd name="adj2" fmla="val 43122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6324480" y="2117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7772400" y="3200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249320" y="48769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5486400" y="4876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952880" y="3200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60199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Importance of Effective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act:  Written and oral communication skills are the two most important factors/skills in obtaining employment.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ere is a direct correlation between employee communication and profitability.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Good communications are the lifeblood of any enterprise.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Is there a best pattern?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Marble Experiment by Alex Bavelas: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tar Group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The star (autocratic) pattern more effective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Star group faster and used fewer messages, developed more efficient processes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However, had negative effect on morale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Group:  high opinion of communication but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low opinion of themselves 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Circle Group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Slow, inaccurate, but happy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No system, no leader emerged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Critical of process, but enjoyed tasks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Emergency Changed Outcom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In emergency, Circle Group worked together for solution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International business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Different cultures create barriers for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Attribution is critical for these time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Percep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Stereotyping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Ethnocentrism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Our communication skills used in our local situations may be offensive to other cultures – We must stay awar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summary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ffective leaders require interpersonal skills and written and oral communication skill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Listening and explaining skills are vita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ommunication skills are critica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e Transactional Model of Communication best for today’s workplace (emphasis on teams)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Chapter Overview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7150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Communication Model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Linear ~ Interactional ~ Transactional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Organizational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Downward/upward/horizontal communication; grapevine; network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Patterns of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tar and circle pattern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Best” Pattern of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Trials show star pattern fast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International Business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Different cultures affect communication effectivenes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Engravers MT"/>
              </a:rPr>
              <a:t>Three Basic Communication Models</a:t>
            </a:r>
            <a:endParaRPr b="0" lang="en-US" sz="28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The Linear Model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hows communicative events as one-sided activities from the leader to the follow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tatic model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The Interactional Communication Model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Follower decodes the messag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Follower encodes symbols; gives feedback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The Transactional Communication Model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Face-to-face communication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tatic model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93"/>
          <p:cNvSpPr/>
          <p:nvPr/>
        </p:nvSpPr>
        <p:spPr>
          <a:xfrm rot="896400">
            <a:off x="609120" y="1261800"/>
            <a:ext cx="3057480" cy="155736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360"/>
              <a:gd name="textAreaBottom" fmla="*/ 1160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59" name="AutoShape 194"/>
          <p:cNvSpPr/>
          <p:nvPr/>
        </p:nvSpPr>
        <p:spPr>
          <a:xfrm flipH="1" rot="20703600">
            <a:off x="5551920" y="2437920"/>
            <a:ext cx="3057480" cy="155700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000"/>
              <a:gd name="textAreaBottom" fmla="*/ 1159920 h 155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c08d"/>
                </a:solidFill>
                <a:latin typeface="Engravers MT"/>
              </a:rPr>
              <a:t>The Linear Model</a:t>
            </a:r>
            <a:endParaRPr b="0" lang="en-US" sz="36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61" name="AutoShape 175"/>
          <p:cNvSpPr/>
          <p:nvPr/>
        </p:nvSpPr>
        <p:spPr>
          <a:xfrm>
            <a:off x="685800" y="541008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Lead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2" name="AutoShape 176"/>
          <p:cNvSpPr/>
          <p:nvPr/>
        </p:nvSpPr>
        <p:spPr>
          <a:xfrm>
            <a:off x="6477120" y="541008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Follow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3" name="AutoShape 185"/>
          <p:cNvSpPr/>
          <p:nvPr/>
        </p:nvSpPr>
        <p:spPr>
          <a:xfrm>
            <a:off x="3086280" y="5410080"/>
            <a:ext cx="2971800" cy="990720"/>
          </a:xfrm>
          <a:custGeom>
            <a:avLst/>
            <a:gdLst>
              <a:gd name="textAreaLeft" fmla="*/ 371520 w 2971800"/>
              <a:gd name="textAreaRight" fmla="*/ 2600640 w 29718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Book Antiqua"/>
              </a:rPr>
              <a:t>Channel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4" name="Text Box 167"/>
          <p:cNvSpPr/>
          <p:nvPr/>
        </p:nvSpPr>
        <p:spPr>
          <a:xfrm>
            <a:off x="13716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5" name="Text Box 170"/>
          <p:cNvSpPr/>
          <p:nvPr/>
        </p:nvSpPr>
        <p:spPr>
          <a:xfrm>
            <a:off x="898560" y="1333440"/>
            <a:ext cx="664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6" name="AutoShape 174"/>
          <p:cNvSpPr/>
          <p:nvPr/>
        </p:nvSpPr>
        <p:spPr>
          <a:xfrm rot="896400">
            <a:off x="636120" y="3741480"/>
            <a:ext cx="3057480" cy="155736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360"/>
              <a:gd name="textAreaBottom" fmla="*/ 1160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7" name="AutoShape 190"/>
          <p:cNvSpPr/>
          <p:nvPr/>
        </p:nvSpPr>
        <p:spPr>
          <a:xfrm>
            <a:off x="3657600" y="3844800"/>
            <a:ext cx="1828800" cy="9208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8" name="AutoShape 189"/>
          <p:cNvSpPr/>
          <p:nvPr/>
        </p:nvSpPr>
        <p:spPr>
          <a:xfrm>
            <a:off x="3657600" y="2570040"/>
            <a:ext cx="1828800" cy="9208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Symbols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9" name="AutoShape 188"/>
          <p:cNvSpPr/>
          <p:nvPr/>
        </p:nvSpPr>
        <p:spPr>
          <a:xfrm>
            <a:off x="3657600" y="1366920"/>
            <a:ext cx="1828800" cy="9190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Encod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The Lineal model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One sided – leader to foll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ncoding thoughts to symbol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Symbols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Images/logos/etc. represent something els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Message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Symbols formed into message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Message can be one or set of symbol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hannel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Messages placed in channel for distribu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linear model</a:t>
            </a:r>
            <a:br>
              <a:rPr sz="3200"/>
            </a:b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Language/body cues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Book Antiqua"/>
              </a:rPr>
              <a:t>Verbal Language Cue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Messages have verbal or nonverbal cue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Powerless languag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Hedges (I think, ums, ers, disclaimers)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Powerful languag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Perceived as competent, dynamic, attractive 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Linear Model</a:t>
            </a:r>
            <a:br>
              <a:rPr sz="3200"/>
            </a:b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 Language/body cues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Nonverbal Language Cue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onverbal Cues – Four Function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upplement verbal cues – accenting emphasi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ubstitute verbal cues – smile/frown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Contradict verbal cues – sweating/body movement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Regulate verbal cues – pitch at end of sentence to ?,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holding up a hand to stop interaction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-  Others:  body positions, appearanc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Paralanguag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Pitch, rate, volume, use of pause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Demonstrates enthusiasm, anxiety, urgency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01:21:33Z</dcterms:created>
  <dc:creator>Babcock Graduate School</dc:creator>
  <dc:description/>
  <dc:language>en-US</dc:language>
  <cp:lastModifiedBy>AEURY</cp:lastModifiedBy>
  <dcterms:modified xsi:type="dcterms:W3CDTF">2009-06-01T16:08:09Z</dcterms:modified>
  <cp:revision>30</cp:revision>
  <dc:subject/>
  <dc:title>Management of Organizational Behavior:   Leading Human Resources</dc:title>
</cp:coreProperties>
</file>